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0F4-D1E2-4C9A-8CFA-C5CD77F4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4962-57DC-4530-9F57-30FD3F40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111-F83A-4DB7-9015-FD265D29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77B0-1245-4AD6-B377-23ADE9A8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569-639C-40C1-A662-B44F79D8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152-C3CD-400E-A42B-0D1292E5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21C-2C18-4916-AC3E-7E16AAC6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0E3-FB70-4A5C-94DE-CF7C6BE6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FFB1-DD8D-40A0-AE66-613D74D4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C10-E8BF-406B-BCB2-B3931F61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608-2178-454D-97A2-1677AC00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194-C3A4-4B5E-B11D-1022BD02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8857-2DB9-47B2-BCCF-F79576804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school.com/atschool/academy123/html/bbapplet_wl-problem-430715.html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hyperlink" Target="http://www.phschool.com/atschool/academy123/html/bbapplet_wl-problem-430969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equalities and their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09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 inequality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41148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solution of an inequality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8353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mathematical sentence that co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4724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ny number that makes an inequality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1520" y="5257800"/>
            <a:ext cx="133164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94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1447560" cy="412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2743200"/>
            <a:ext cx="1447560" cy="426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28600" y="3657600"/>
            <a:ext cx="1523880" cy="514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80880" y="4876920"/>
            <a:ext cx="1295640" cy="556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514600" y="1828800"/>
            <a:ext cx="3454560" cy="382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2590920" y="2971800"/>
            <a:ext cx="3454200" cy="38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2590920" y="3809880"/>
            <a:ext cx="3454200" cy="38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2590920" y="4800600"/>
            <a:ext cx="345420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133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28600" y="4952880"/>
            <a:ext cx="6019920" cy="806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304920"/>
            <a:ext cx="13716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2948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5867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1:57:53Z</dcterms:created>
  <dc:creator>Susannah Graham</dc:creator>
  <dc:description/>
  <dc:language>en-US</dc:language>
  <cp:lastModifiedBy>grahams</cp:lastModifiedBy>
  <dcterms:modified xsi:type="dcterms:W3CDTF">2011-10-21T13:03:33Z</dcterms:modified>
  <cp:revision>11</cp:revision>
  <dc:subject/>
  <dc:title>Problem of the Day!!!</dc:title>
</cp:coreProperties>
</file>